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F18-CCFB-4A05-89A1-F785D170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2C4-DE60-4981-9A42-99C616EA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6A8-6468-4548-B628-0BC368D7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AC7-B4E4-4C3C-B6FD-7F6BC642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491-E613-425C-A5CF-B95D8809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BDC-F3AA-4502-997E-8021D0B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123-8149-4A69-935D-D87C872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A16-CEC3-459D-9DAA-274124F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A77-ADC7-4E45-9B64-87900A8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E2F-EF0C-43C0-8463-AF36114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BE6-C4EC-4A36-B5ED-E0F28F6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128-93C1-452D-B932-C2F64F7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AFB0-55E3-4EA7-B7B3-58F960CC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nd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quantitative data and qualitative data and give an example of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- independent (manipulated) variables and dependent (responding)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experiments have contr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experiments be repea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2:14:45Z</dcterms:created>
  <dc:creator>Sussex County Public Schools</dc:creator>
  <dc:description/>
  <dc:language>en-US</dc:language>
  <cp:lastModifiedBy>Brinkman</cp:lastModifiedBy>
  <dcterms:modified xsi:type="dcterms:W3CDTF">2007-09-12T13:08:55Z</dcterms:modified>
  <cp:revision>3</cp:revision>
  <dc:subject/>
  <dc:title>Data and Variables</dc:title>
</cp:coreProperties>
</file>